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8C23-7721-4EA1-8708-0A72CBA71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39E1-940D-4E31-9B72-9FFE1A09D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1C6-0BAA-4BB8-94B7-925B288B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5E7-B2BA-4E41-866A-866AE7E2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233-7C58-4AAF-9380-3C32F3FA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FE3-5509-4AAA-8AD5-6546BCBA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E41-39B8-4F9B-A537-C009E6E4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C6E-1070-4D69-BF1E-1B4EA7B3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982-BB25-4E3C-B848-EBFA7082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FB2-BDF6-4AFF-9B54-A851D187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03C-DE9A-4AE2-A095-3FB80436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448-F978-48EB-BEDB-D40AE46C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182-767D-4E6C-9A89-6EF035D4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B85-B489-46BD-B75D-B920EC66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BB0A-C714-493B-9321-59C37F359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1B90-AF87-4F1B-82DF-9993F8AAC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сентябр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FBE7-50EE-41F2-AD25-1126B44FF5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сентябр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9-02T09:43:00Z</dcterms:modified>
  <cp:revision>172</cp:revision>
  <dc:subject/>
  <dc:title>Презентация PowerPoint</dc:title>
</cp:coreProperties>
</file>